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4643-9BFC-45F5-99E0-57D82FB40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D21C-6BE6-4014-B8D8-DC63132C4C48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eek - R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9185-E009-4445-A3D9-10193A2C5EB7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Rich Site summary created 1999.  Richardson calls it a new killer app, but tech not new, just its use in edu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51 Warlick  says it may very well be the most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ing is like subscribing to a newspaper or magazine no need to go get it.  Just like netflicks vs. blockbu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84F4-99F3-4A3F-A1B5-B7E0B8F007FC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15E6-7744-46D9-879C-37E5CC37E80F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3C = World Wide Web Consort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3254-53B1-453C-9419-845EFDEA0A80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B6C-C455-492E-8648-1C5D4596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1783-0F27-4493-8473-06028AE4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F651C-5627-4546-B9C0-A946EAD4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1B1E9-10BE-4F96-9279-ECD8E932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64342-5EB6-49B8-8480-4F3AAE48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71D6F-1657-463D-87B0-6E92813F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DEDBB-686D-4C72-A72F-1A533F01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E3453-00C0-4899-B0DE-68DAB538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1576B-034E-4387-B732-A5B062C7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57195-46E7-4163-A8BB-9E935DB3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B1EDF-3FF1-4C2C-9CE2-5C633A9F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6D4CA-0107-4576-9075-A21B89A1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297-0496-4BDD-B45E-D21EF6BA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574F2-1524-4BA3-B21F-9A76893D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899CE-89FF-4D32-B879-40506524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CF8F2-34B6-4224-9C1F-CB94218F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A4CED-F325-4ACC-A094-E0032EDC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2C03A-9CAE-4374-9AE4-453218D9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7970B-85BD-4C0C-9B48-4185D946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AEF4F-7C7B-45C3-9424-264C2DB5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45EAA-AAF5-45CB-9152-0A792DED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41414-0FB1-4288-A57D-4BC90EF5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D6954-AFA9-42E0-979D-6A28CCB8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C2D9-99E3-45C7-9708-C24A50E2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CB17C-84C1-4484-AD41-E81B679A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9A101-A43C-4DA7-A386-A4576D93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06556-AD5D-4F71-B0D0-0D8B1CB5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B5D0B-5210-4172-98B9-CA4B0A6A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E42F3-C043-4BA7-8C9F-8E37128E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F035F-4323-47F5-AC3A-1A3DEA38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3A7AB-7758-4873-ACAB-5ACA9C5D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06698-A23F-48B0-B9FD-51C527B2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0BEBB-E35D-4217-9333-360DB8D6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4FB67-D694-4027-A52E-B9D2DC44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BB2D-0DB1-435E-8ED0-07F818ED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2A1CA-27B9-4ABE-8B5A-370F2D96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0E9BE-0652-4710-A31B-203F113F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E2685-F42B-4A1D-86F1-3625A045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A820F-F1F7-4174-BCFD-611B719D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87941-D22A-40C5-8454-76DC935B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3F7C5-A50F-455A-B686-56E53EFE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772BD-4380-4E7C-BA00-646CC24C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A62A7-E32E-4F99-B4BD-9FE8CB1E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2B17A-198B-4A15-8F46-357A4201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2D004-F691-4A6F-B7FF-389C1166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18C8-B667-42A4-B58E-FE4C0D56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297C5-9045-439A-B294-248A5F35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BBCDC-126F-419E-8EFB-BE6B213E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99704-F2CF-4EA2-AEF3-2EF2E535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F3F08-0DB9-4582-9B93-5C297DF9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32907-3CEA-4AAC-B2B2-6CF6C342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F5C11C-5179-40F5-9B34-8D28DBCD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A5908A-EBB9-4501-B579-594B8D3F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2E417-F478-4F28-A84C-17EA15D3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A4555-066F-4F52-BA2A-0E58E29A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2A709-7B2B-46E0-8689-C6E4B5D8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457B-9015-4380-A0B7-35F58976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B6B565-0DCC-4507-877B-F374707B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9D43F6-DD88-459F-9163-A56939D6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9D8CC-2D5D-41CD-BE82-27A7897A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21707-1997-4D13-A874-A519C757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014657-2FBB-4701-8C59-42E2AC17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FCBA7-B7F4-4BF8-8E88-78A57387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9A8D2-8DEC-489D-8290-C8A6D2F4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E551-0350-4338-86BC-1DA92A13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9546-551D-417C-85B8-1410CA0A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333C-E811-4F22-B493-45D24A92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307D-D058-4650-BC32-0ABB756C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40F-5FAE-4FFD-B929-0E95EAD9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AFDB-55C4-49B2-AF9B-F2E2D970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AF18-D657-4C8E-97E1-9D9D1E63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CBD9-C70A-4485-8F01-3E17CB93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B95B-498F-4FA2-BF8E-0F6AC727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B28A-57E9-47FA-A204-193CEA5D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90B51-24DB-46F9-838F-2BC85FF1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6405F-E2B4-4D6E-B657-BE0490C3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F4482-669F-4E75-AAC3-EEFB8975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2D8B7-FEA7-4BF6-99DA-8E5CBCCC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D096E-C972-442B-8ED7-BCFE4835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9B5C-5CED-4451-97F6-EC84264B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3D528-38E3-483B-9D78-2C8D48F4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801BE-E925-4982-A4EC-B75C5C33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4F773-53AB-4AC1-835E-C5C696BE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D434E-CFD4-4ABF-9576-B3C3352D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F1E88-3D4F-4770-AFC3-3FF37D99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BA4CD-2255-4558-8F6E-202F175F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8FB42-8F30-4675-99DA-40D32BB3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455D2-CFAA-4BBA-A917-E1CEDBB1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94268-5CF0-4998-A542-7DD68693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ADF35-F2BC-42C0-A301-DDC1FD29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FBC-5F0C-4315-AE9F-AEE0AAF7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3829D-E8FE-4571-AA57-93477B12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890B6-B2A2-41A5-91D1-062DB126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F46FC-E2FE-4DEB-8A5E-63EBABBA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A8499-8AE3-4639-9A50-F7CEAA62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2B8B6-C679-4A49-A7B5-F3DE3A03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094EB-8374-4BCD-9161-0C5FF4EA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7EC9B-919D-451D-A219-E2663364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AAD70-722D-4A3A-9CD4-8DBA0D1D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47E63-A6C4-4F87-8D5C-1E980391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9E9BD-2C20-414F-BA6D-B47FC943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B5E3-4462-44B7-8ABF-7E6FB125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37016-883F-4F33-AD7C-C82906C2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A960C-4C3B-407F-BB0A-2725E606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4343D-9F43-4634-9AF2-303210A3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7CEEB-6D55-4AAF-87B6-B8E9B65D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D64E0-D46E-4838-8DEC-F901114A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EBBD0-3F64-4B89-A101-A0C7BCB5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66190-93B2-4157-80E9-EDD01AC3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2A22B-8A02-4966-9FE0-FCCB0C7B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AC953-05DE-48F9-B2FD-FCAB8283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613BB-C963-4F2E-A390-46552E61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824B-5206-46D0-A8E0-8B86DB93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AE7CF-E233-4A01-B034-78E13E02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6E4E2-2094-46E9-B38E-E16427AB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D3F64-BB64-4326-9351-F22B3902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C5738-2AB8-4307-93BC-EE874CF2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F1485-58DD-4285-BDD8-D292590F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E5883-A89F-4D70-A26B-0CBF98EC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F5FAA-631A-4828-B923-7AF6B702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E3DBE-0A1F-402D-9463-A7AFEC14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3B8BB-7BB8-4372-ADF5-63D75803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FC9A4-58D5-4CD6-BC5C-7539F7B3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454-E43C-45A0-94C3-C11204B9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AADE2-C02D-4BE2-890E-DC19DF8A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85C98-63C9-46EE-A3B1-900CBCAB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96509-3598-48CE-B18B-5D039D34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1E900-20D9-4F9A-98B4-3D077EF3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1A798-9F6B-4BFD-9151-937DD7FC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9F24B-D348-456D-945B-910AAB4F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1F9AF-B845-4A20-A41B-95A951F2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C11AE-A1FD-4CF2-9042-52C7247B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58556-FB15-4B6C-AE15-CBCDBF74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84AB9-522B-4FF2-811F-0056BA29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ED76-757F-4C20-9AE7-89D542BF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A0610-BC38-469B-B4FE-6CD4DBEA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DBA37-096C-4CA3-A56A-EBDD8013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FC250-0C33-4FA1-8693-3C944F4D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455F3-0790-4BE7-92C8-6982821D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159C1-CC37-43B9-81A4-5A3C1EF7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71349-6991-48C1-BC79-E2C808F7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B87FA-2D8A-426C-871A-B67552A8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D9ACD-67DF-48EA-894D-1A288109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BA6D8-AC53-41CB-AD41-D676526E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ED02E-B0E0-46DD-AA60-B75D2074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E92-ACC7-477A-9DDD-BC68861F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266C7-D9E4-4E23-9F05-D22013D1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BE714-F19E-4D12-ACE1-00F0062A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26916-F8C6-427D-9A4A-8436CC98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8FBB1-2EFC-4D3E-A17E-DB3C60F5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721AA-90D7-4CFA-9082-D4634DF1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94B34-134F-46CE-B522-FE951E9C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5D213-B3C7-45C4-9CBC-2D68853D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EE21E-6640-4091-9F6A-67F679E5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2E2E4-CD72-4C11-AF84-B43FC3FB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FAE51-364B-4BB2-B53E-A113850F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69EC-1C22-4DB1-8D19-5BEC618F8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B2A7-02C3-460A-A298-29EFC7A13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E32E-DD3A-4BC4-99F7-1CB2E6CF4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903A-0291-4AF2-9E3F-8F9C53F33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84E1-F75E-44DD-8615-92965124E5EA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1243-5EB0-4E9D-A147-81DC7EDCC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8568-CD12-4655-AAC2-CBD5E64C8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0FEB-53C5-4D27-857F-9E5BC6B3B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8788-E265-4710-88F6-17F75FAFF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8C15-8096-4A73-8330-EF3669837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D242-8BC6-4A60-9C4F-85F8CEEFC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655C-8E1B-4E54-8A7E-A26961D40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919C-92DC-420C-B610-7E515BBCE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hat is Web 2.0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304920" y="4971600"/>
            <a:ext cx="861048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RSS: Really Simple Syndication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2895480" y="76320"/>
            <a:ext cx="5391360" cy="3884400"/>
          </a:xfrm>
          <a:prstGeom prst="rect">
            <a:avLst/>
          </a:prstGeom>
          <a:ln w="0">
            <a:noFill/>
          </a:ln>
        </p:spPr>
      </p:pic>
      <p:pic>
        <p:nvPicPr>
          <p:cNvPr id="543" name="msjWeb2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RSS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SS (Really Simple Syndication):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 format for aggregating Web content in one plac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ring the content to you. News feeds: (NPR, Current Events, sports articles)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llect most any Web content as it is updated including podcasts and Blog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ubscribing” sets you up for receiving updated content,  bringing the Web to you, saving you time!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SS uses XM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eed Reader / Aggregato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feed reader, or aggregator, picks up the RSS feed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Google Reader, Yahoo Pipes, Bloglin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uilt in to Blogg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rowsers have them built in but the disadvantage is no portabilit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SSMix can combine feed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hat is XML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XML stands for E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ensible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rkup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nguage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XML is a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markup language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much like HTML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XML was designed to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arry data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, not to display data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XML tags are not predefined. You must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fine your own tags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XML is designed to be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elf-descriptive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XML is a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W3C Recommenda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80808"/>
                </a:solidFill>
                <a:latin typeface="Tahoma"/>
              </a:rPr>
              <a:t>Retrieved from: http://www.w3schools.com/xml/xml_whatis.asp 10/03/07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Links for RSS and XML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http://www.w3schools.com/xml/xml_whatis.asp</a:t>
            </a:r>
            <a:br>
              <a:rPr sz="2400"/>
            </a:b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http://www.w3schools.com/xml/xml_usedfor.asp</a:t>
            </a:r>
            <a:br>
              <a:rPr sz="2400"/>
            </a:b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http://en.wikipedia.org/wiki/Rss</a:t>
            </a:r>
            <a:br>
              <a:rPr sz="2400"/>
            </a:b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http://en.wikipedia.org/wiki/Aggregator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You’ll find so many just searching or using Wikipedia 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6:56:04Z</dcterms:created>
  <dc:creator>Paul</dc:creator>
  <dc:description/>
  <cp:keywords/>
  <dc:language>en-US</dc:language>
  <cp:lastModifiedBy>MSJ</cp:lastModifiedBy>
  <dcterms:modified xsi:type="dcterms:W3CDTF">2009-02-09T17:54:07Z</dcterms:modified>
  <cp:revision>97</cp:revision>
  <dc:subject/>
  <dc:title>R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33</vt:lpwstr>
  </property>
</Properties>
</file>